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C00-22A7-43C2-8D47-DCD2ED9B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C84-4EEA-4BF8-8C1B-D830FB8C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E8609-3AB6-4625-B0C7-27D294FF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BDA5C-8660-4800-B8DC-8307CDDC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8BFAE-13B4-47C6-B387-FB324BE1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A4D8B-2B24-4BFB-A791-27EED196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FB4A7-DF06-4563-B5D2-0D0C89E3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1290F-C4AF-454C-9923-701F699F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E6B49-CCEB-4FCE-BF24-10A5BA2A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8A004-7501-430C-BD29-3B250398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1DF27-A4FB-4D55-B86D-22CFDD75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FFA5E-7DB0-428B-A4D0-2FE14C34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03B-11D9-419B-909E-5050F7E8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D211F-EBBD-492C-B014-4E6FCCE2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A4628-26D7-4718-84A7-967F73E0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C52A7-9963-4BC1-8DB9-9AAFCF9F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62B1E-2E34-4A59-81BF-68933C8E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B2245-F51A-4BCA-A0E0-026E7724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E5125-609C-4513-BF43-AF6FD4C1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1724A-EAFA-46EF-92C1-A38E0DF4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F1648-5E79-4726-B99A-90905735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60EE0-29AD-4B7A-804D-92275EAF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A9541-70E8-46D3-8F4E-E9C60014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99A-02A8-4332-B66F-067700CF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CAA9A-4B03-435E-AA1D-E4459BD9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E9399-AD67-4411-B985-4543771F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A47E6-3235-43D7-A312-BEB9CCAB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87AF9-3101-4924-B1AC-E5F4AF99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F4FA3-A864-4DBE-A416-D88CD395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8D9F7-3B0A-4494-8C80-7AB36DCB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B4B93-43CB-4858-B267-94E71B09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C65E8-519E-4B5B-A047-2F9EC4CA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D48DD-2373-4E1C-930E-757176CD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441CF-7A02-4A52-B0DA-A1EC0D54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5FE7-94EF-4C80-8810-4E696B40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F44DE-028A-4B49-87EC-32878B40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3A14A-78EF-4479-BDEB-B5B3ABAD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A84B8-A7CF-4A5E-A3DB-1F3A59E5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19FF4-969D-496B-A9DF-02394D7D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95E95-A534-4504-9925-4B17F770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0D0B3-EC4C-4121-BB0D-C9BA45AA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467D5-DA38-46EB-8545-5889E5F9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888A6-5AE0-4347-BFA0-1E6F810A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D9C18-6B21-4556-8CAD-EB7097CB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E90AB-73A8-4FEA-9C32-0489EEF8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61DA-3A8E-4663-AEA9-B925A18D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CC1C5-F59A-4AD2-B3E7-7F261461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9F804-F1A7-423C-8CB0-3457F782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3102A-7C71-41A2-B241-92AC9D60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775B3-9D35-4EA5-A1C5-CA5B1C1B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96937-C34A-4937-91A5-175F0C97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76307-4D1D-496C-83DD-763AB1B2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CB592-5591-471F-80B2-5B3DA2D6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34328-A566-4BCA-A8E7-B7303EBA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1A78A-DF36-4E7F-B721-5D2B3BDA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0150B7-83D2-409E-A25E-4F207B10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2529-4BB2-44C8-93EB-FD80C663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B4656-F4CA-4EE3-9D0F-EE7A0659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76677-8E27-4685-9B65-47C9D667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DABD1-9B2E-47D3-B751-0DF639D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CDC7C-4365-44BA-9C3A-ED1DAE10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A6C93-CD6A-4451-B38F-2A50FF84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CC91B-6EA3-4AA8-916E-9E6C5271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F7D08-3409-42D0-A4A1-A1C02C6B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69BF9-5225-4312-BBC6-20FE13EA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C631D-09B2-49B3-9A78-A59FAF4C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D95D1-279C-4A33-9853-519E1286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7718-C119-48D1-AB84-64C144CE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A920C-1C7F-4910-9833-02E7302D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D8DD81-744B-4C00-8FA0-2A588BBA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B68E4-CCA0-4EF8-AEED-ACF865D7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13A19-A9A9-4EBE-BB81-5181294D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8AE45-10D5-40B7-B84D-7B6B870A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12A18-4E0A-46A9-9802-BC31E3FA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05E0E-02BA-4445-A378-E69A3EEE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D84840-D09E-42B4-A44C-4AC30025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85707-8084-444F-8B2C-4E91B053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2B005F-1004-41C0-BE8A-65D5F34E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1306-84AC-42BD-BBDF-1DD5D07A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295185-2A34-4455-968B-53930E03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1100FD-BDE8-4356-A97C-5BE6D319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F0833F-BB95-4E48-A3CA-93106E98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E0A0C5-C6FA-4796-BE8E-883D047A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C6AC1-3735-4391-B1FA-D61151DE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91115D-2E03-4414-8565-D05EFFAB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8B59D4-A7C7-4F70-962A-D34C07C7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4199EE-C5C9-4903-8E52-DB039357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94ED0F-8DF5-4507-ABB7-3FBB2A0B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E73AB-D367-4605-80D2-A61DA851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6EB9-A0EF-49BA-AC5F-DFEF6A0E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27CC4-1385-4013-B766-1A6E9DD5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2C8C2-0687-4ACF-9F49-BD13D37C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416D48-95BC-4C6E-A729-65599647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B04262-A7B9-437F-B947-24665CD5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03D3A-83F9-4903-A488-ED6BD69C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9119CB-6149-4E89-8B52-124342B1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7A22C-93AC-4D49-9488-987158CA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58D07D-C6C8-4C32-AB50-68051532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DC6575-81C1-4F8D-BA63-66BE9742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42C9EE-A436-41B7-B1D4-ADB6A5D9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8BB2-C2A3-4E10-AEBD-4BC0AB41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37F36E-65E4-4724-81F1-E23C491C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53899A-A946-4042-9476-D37E8DED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483D8-78C8-4633-8CF5-0A680B0D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B71-22D3-4D34-90C0-878637A2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ACBA-E310-4906-8092-F5287115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A0BD-1677-4F5C-A5E3-45E0A965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F654-339B-48AC-8F51-333BC85E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4C0A-1F9B-490E-B06E-73DEE042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1054-C8E6-4D27-AF45-10BB9E69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E9678-674E-4D3E-AE66-12B2206E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04252-E0C3-4AC0-BF5B-43465F5A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7D7AF-3F73-4C4D-B067-A94E9412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EBCBD-DE2F-4F90-A88D-7A4967EB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CE8A3-5CD2-41E4-A2F7-3C520491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2F8-6020-4986-BA0F-E22C3AD0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28C93-18A0-45DD-B940-273F2473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4ADB6-2EA8-4D0F-8572-326A3588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9C58-0C03-43BC-853F-A9494B98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B7EB-0C25-4DA5-86DF-3D24222D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805B-529D-46D4-8EBB-98A27C6F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7EEEA-B252-4CCF-A7B7-90A80802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DA480-A65B-4CEA-BC73-F100E5DA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84F7A-09AF-451E-80A8-E794D86E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CF299-8C50-4185-B954-9E09EB6F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FFED9-7C1F-4665-B7F7-9FBABE3B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2E0-200E-4332-B2C0-938321A0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B4CF6-C9BC-4A21-9AF6-ED4D0E2D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D9837-9F0C-44D0-BEBC-4E94C38E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880E5-D5FD-4340-92C3-40042B06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4DD48-0277-42CA-A2F7-44DE9D4F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C2E79-2805-400B-8050-46E6E220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E2A4-1B57-4C42-AC86-C2CEE9B4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9EA73-AA58-449E-88F4-C37BA358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313F4-8BA6-4F54-B319-00CF39AA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3008E-4B53-4621-B1F0-2AE2C62D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02EFA-79A3-483E-917F-7BA7FDB0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FDE-0946-4917-A8CE-4EDF85A6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48B55-8150-408A-9992-636DECF6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24280-2710-42F2-A56A-BAD6E18C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3C6B6-3D95-4AB1-8F1B-4500F722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5C45A-F092-4A7D-A3EA-0892329D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3424D-0B66-40F2-B393-958462FB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87287-41D0-4F39-B252-352797A3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FAF70-0922-439F-AA86-E4AAF53C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10B24-E41D-4E87-AA9B-1A511FA9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23E13-0CBB-4665-9D8F-C361C3F8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0017D-0F63-4F37-B73F-0574C4CA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607-FCD8-45AA-95D0-455D90B2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0BE8C-B36F-4CE8-9108-41DEFC01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49316-0F7A-4C8C-8380-7B71A783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39937-B97D-4BDA-A4B8-806E5000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7AF1E-41B4-4B63-B703-00436F31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1B3D0-F759-43EC-B486-DD7A9D9B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96771-98C0-42DD-B98E-1A7346DE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264AE-D4B6-40A7-8790-CD604FE3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7B28B-539F-4FC2-AC5F-EB48C1B3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4E8C7-463B-4ECB-AD0D-3B39AE2A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4CF46-A89B-4FD0-9D48-E9B7DC5E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69D-9EB3-49B4-9B03-701C13E7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BF6FE-075B-45AB-B9B7-6BA25D2B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4FEF0-AD8F-4F58-8B96-7AFD42C6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FFC7D-266A-4598-8CF8-2637FA34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29F28-CEAB-4F6B-8E89-0364E68E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70153-E16F-4BB6-AB60-8963B72E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05E75-1BE0-4471-85BE-1A4DD7A1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FAB8B-E88C-4D05-8584-DAC03E85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25DC7-AA23-4056-ADAD-349BAA7E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2A0E0-4336-4394-B57A-FBE686B8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E248F-5D55-430F-8F54-6F84875B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6B8-7175-4950-8BBB-C95BDD85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AFC96-9F52-4524-9C11-2E0E5116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B1C76-22D2-499E-A93B-3F7FA3BF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733C2-4FDD-4D42-8228-889F441C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33EFF-5A02-4ADA-8E49-1A1C419C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890CE-C34E-4A8B-B107-1591BFC5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19415-FB07-43E4-983D-C821AE78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EC594-9300-4A7E-AD47-6A069E3B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B81E8-577B-4B87-ACBA-56F97CF3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F15CB-2CAE-467F-8BEB-9B673823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68F9B-0C8D-497A-9040-16BEA6B2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50D-7B6C-4F2F-80BB-49000F11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1A93D-F996-4791-8F29-E575AC5F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D2E71-6473-4D44-8CDB-A1268721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49941-0DA4-46CD-81FF-3C187978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3138E-5E19-490C-9525-994B4A04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6DBB0-2854-4761-9509-5A875711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0E82D-47A0-4E21-A723-48F1B0FB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45F98-AD72-4E75-A8B0-56615098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176ED-5846-48E2-8C63-357879CD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BDFF1-E1A8-4C39-AF95-BE72C34A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76601-E92A-4200-98F0-C8EF0572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D8B3-C07C-409A-BBE9-F7E397D2B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2781-574C-4181-A7C9-906B19FDDB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6932-B277-4017-B237-17D4284669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4BB4-1A14-4A77-A93A-8256398491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45C3-6C35-4073-B563-15107C7668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4EDE-C207-41A1-BE47-D9C23BD90F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C7B5-7838-4791-BE79-A0BAC123BF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DDB4-4AAF-429C-BBC3-0AEF150078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3167-50C8-4041-A546-8C8EF3B456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3146-749F-4AA2-8281-54114D3756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25BE-ACBF-420A-9296-01F7D6E383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C951-2BB5-4B6A-B730-F26D60A30A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58D8-489E-4A23-B45C-488DE39C17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2FC0-B8AD-4AA1-8ED6-590454D032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BF74-EFDE-4C78-8E38-9C15DE1375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DE30-443C-4E80-9F15-9E7D625BF4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D73E-9D55-435B-926D-7BAF96B8763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452520" y="208080"/>
            <a:ext cx="8151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80880" y="2133720"/>
            <a:ext cx="82947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проек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Ы ПО СОЗДАНИЮ И ПРИМЕНЕНИЮ МЕЖГОСУДАРСТВЕННЫХ СТАНДАРТ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ЦОВ СОСТАВА И СВОЙСТВ ВЕЩЕСТВ И МАТЕРИАЛ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2016-2020 Г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9" name="Picture 70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148200" cy="85392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3"/>
          <p:cNvSpPr/>
          <p:nvPr/>
        </p:nvSpPr>
        <p:spPr>
          <a:xfrm>
            <a:off x="365040" y="1650960"/>
            <a:ext cx="8379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2-е заседание  НТКМетр МГ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700200" y="5084640"/>
            <a:ext cx="815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78C6-4CF9-4F6E-B24A-035A273A392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Прямоугольник 4"/>
          <p:cNvSpPr/>
          <p:nvPr/>
        </p:nvSpPr>
        <p:spPr>
          <a:xfrm>
            <a:off x="555480" y="1341360"/>
            <a:ext cx="84265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 соответствии с поручением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47-го заседания МГС (п.29.5 протокола)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Росстандартом (ФГУП «УНИИМ») подготовлен 2-й проект Программы по созданию и применению межгосударственных стандартных образцов состава и свойств веществ и материалов на 2016-2020 год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Основная цель Программы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овышение метрологического уровня и качества измерений в приоритетных направлениях сотрудничества государств СНГ при добыче и переработке углеводородного сырья, при испытаниях в области энергосбережений и в области наноиндустрии, при испытаниях сельскохозяйственной продукции, объектов окружающей природной среды (почва, воздух, питьевая и сточная воды), стратегически важных объектов (горных пород и материалов, промышленного сырья) и др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EB5B-59B9-4158-A100-5039DFD9613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Прямоугольник 4"/>
          <p:cNvSpPr/>
          <p:nvPr/>
        </p:nvSpPr>
        <p:spPr>
          <a:xfrm>
            <a:off x="574560" y="549360"/>
            <a:ext cx="842508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Программа разработана в целях координации деятельности национальных органов по реализации межправительственных Соглашений и решений  МГС, относящихся к вопросам метрологического обеспечения единства измерений в государствах - участниках Соглашения, при этом все государства - участники Соглашения в равной мере воспользуются результатами работ по данной Программ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Учитывая опыт формирования аналогичных Программ по созданию и применению межгосударственных стандартных образцов состава и свойств веществ и материалов с 2002 года,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стоящая Программа традиционно сформирована сроком на 5 ле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 2-й проект Программы на 2016–2020 годы включен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одтвержденные авторами невыполненные позиции из Программы на 2011-2015 год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редложения, полученные  от Госстандарта Республики Казахстан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редложения от организаций – разработчиков СО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редложения, полученные  от Агентства «Узстандарт»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редложения, полученные  от Минэкономразвития Украин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6962-4FDA-4A8C-BEF4-9E7C5826270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250920" y="279360"/>
            <a:ext cx="87850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-й  ПРОЕКТ Программы по состоянию на 23.10.2015 г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ает в себя  13 разделов  (109 заданий)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них 1 позиция – Республика Казахстан, 94 позиции – Российская Федерация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позиции – Республика Узбекистан, 12 позиций – Украин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179280" y="1341360"/>
          <a:ext cx="8856720" cy="4519800"/>
        </p:xfrm>
        <a:graphic>
          <a:graphicData uri="http://schemas.openxmlformats.org/drawingml/2006/table">
            <a:tbl>
              <a:tblPr/>
              <a:tblGrid>
                <a:gridCol w="349200"/>
                <a:gridCol w="6635880"/>
                <a:gridCol w="1871640"/>
              </a:tblGrid>
              <a:tr h="304920">
                <a:tc>
                  <a:txBody>
                    <a:bodyPr lIns="58680" rIns="58680" tIns="0" bIns="0" anchor="ctr">
                      <a:noAutofit/>
                    </a:bodyPr>
                    <a:p>
                      <a:pPr marL="144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marL="20520" indent="-205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разделов ПРОГРАМ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уемое количество типов МС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и свойств углеводородного сырь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области энергосбереж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51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области атомной энергетики и атомной промышл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сфере наноиндустр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сельскохозяйственной продукции и материалов естественного происхо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пищевой промышл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почв и 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22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растворов ионов металлов и неметаллов, органических веществ и их раство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минерального сырья, горных пород, руд и продуктов их перерабо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К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металлов и сплав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войств веществ и материал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22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сфере здравоохранения и клинической 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газов и газовых смес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14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34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195C-F2DE-48C8-881B-85BF4F2F886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Прямоугольник 4"/>
          <p:cNvSpPr/>
          <p:nvPr/>
        </p:nvSpPr>
        <p:spPr>
          <a:xfrm>
            <a:off x="324000" y="333360"/>
            <a:ext cx="8640720" cy="83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 выполнении заданий Программы предполагается участие ведущих научно-исследовательских организаций и предприятий государств - участников Программ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Республика Казахста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осточно-Казахстанский филиал РГП «КазИнМетр»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г. Усть-Каменогорс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Российская Федерация: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П «ВНИИМС», г. Москв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П «ВНИИМ им. Д.И. Менделеева», г. Санкт-Петер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П «УНИИМ», г. Екатерин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П «ВИАМ», г. Москв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С филиал ФГУП «ВНИИФТРИ», г. Иркутск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БНУ «ВНИИПД», г. Санкт-Петер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ООО «МОНИТОРИНГ», г. Санкт-Петер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ОАО «НИЦПВ», г. Москв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ОАО «Красцветмет», г. Красноярск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ОАО «ЕЗ ОЦМ», г. Екатерин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ЗАО «Сибтехнология», г. Тюмен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АО «УЭХК», г. Новоуральск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НПП «Геологоразведка», г. Санкт-Петер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ООО «ПГС-сервис»,  г. Зареч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4C7C-1BE4-4ADC-9D75-93E81C01F2E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Прямоугольник 4"/>
          <p:cNvSpPr/>
          <p:nvPr/>
        </p:nvSpPr>
        <p:spPr>
          <a:xfrm>
            <a:off x="395280" y="765000"/>
            <a:ext cx="8424720" cy="76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 выполнении заданий Программы предполагается участие ведущих научно-исследовательских организаций и предприятий государств - участников Программ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Республика Узбекиста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Государственное предприятие «Центральная лаборатория»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(ГП «ЦЛ») Государственного комитета по геологи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и минеральным ресурсам Республики Узбекистан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г. Ташкен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раина: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ННЦ «Институт почвоведения и агрохими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имени А.Н. Соколовского»,   г. Харьк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ГП «ГНИП Институт титана»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г. Запорожь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EBFD-079C-4FB0-9DED-4CB2E468814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Прямоугольник 4"/>
          <p:cNvSpPr/>
          <p:nvPr/>
        </p:nvSpPr>
        <p:spPr>
          <a:xfrm>
            <a:off x="684360" y="1125360"/>
            <a:ext cx="788508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Разработка и применение  МСО позволит  обеспечить развитие ряда  Соглашений  СНГ;  будет способствовать устранению технических барьеров и качественному выполнению торгово-расчетных операций; обеспечит достоверный анализ ценовых и качественных параметров экспортируемых и импортируемых товаров (сырья, продуктов питания, нефтяной и химической продукции и т.п.); обеспечит качественный уровень оценки экологической обстановки; повышение качества продуктов питания и продовольственного сырья, обеспечит единство измерений в области энергосбережения, атомной промышленности, в сфере производства и потребления нанопродукции и в сфере здравоохранения и клинической диагности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924F-F7CA-45B3-9084-7BCCB88B522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Прямоугольник 4"/>
          <p:cNvSpPr/>
          <p:nvPr/>
        </p:nvSpPr>
        <p:spPr>
          <a:xfrm>
            <a:off x="755640" y="2637000"/>
            <a:ext cx="788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8:38:26Z</dcterms:created>
  <dc:creator>Лаб.253</dc:creator>
  <dc:description/>
  <dc:language>en-US</dc:language>
  <cp:lastModifiedBy>user</cp:lastModifiedBy>
  <cp:lastPrinted>2015-10-07T11:04:23Z</cp:lastPrinted>
  <dcterms:modified xsi:type="dcterms:W3CDTF">2015-10-23T12:16:34Z</dcterms:modified>
  <cp:revision>172</cp:revision>
  <dc:subject/>
  <dc:title>Государственная система обеспечения единства измерений ТЕРМИНЫ И ОПРЕДЕЛЕНИЯ, ИСПОЛЬЗУЕМЫЕ В ОБЛАСТИ СТАНДАРТНЫХ ОБРАЗЦОВ ISO Guide 30:1992 Terms and definitions used in connection with reference materials  (MOD)  ГОСТ  Руководство ИСО 30:1992, Изменение 1:2008 (проект, RU, первая редакция)</dc:title>
</cp:coreProperties>
</file>